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A39-F286-4DC5-8200-78577709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2C1-4127-42E7-9106-3C631602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CEA-6B3A-4E5E-91C6-5B1BDDDF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FFE-37E5-4F0A-942B-42A4E4E7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5EA-9940-4F31-9FF9-01A1FEC0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2C8-0B77-4BE7-9344-083996D4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C59-77E3-44C0-9C26-7CC5F439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36B-0ACA-4AF1-A067-CE0B72FF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A61-7595-46FA-ACF8-262251B5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D7C-67D6-426A-B243-805BDDC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9CC-A6B5-4B36-B3B9-241E5123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79B-8289-4C25-BC35-925362E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34FD-E8BE-447D-9598-479AB4E2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916280"/>
            <a:ext cx="6913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PPEARANCE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6178320" cy="4816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33400" y="5445000"/>
            <a:ext cx="39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Bleached 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276360" cy="471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77160" y="1622520"/>
            <a:ext cx="423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CONTA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LEN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19400" cy="535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435640" y="4005360"/>
            <a:ext cx="2808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TTO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piercings.jpg piercings image by Boraozen"/>
          <p:cNvPicPr/>
          <p:nvPr/>
        </p:nvPicPr>
        <p:blipFill>
          <a:blip r:embed="rId2"/>
          <a:stretch/>
        </p:blipFill>
        <p:spPr>
          <a:xfrm>
            <a:off x="5508720" y="2924280"/>
            <a:ext cx="3124080" cy="361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47640" y="3357720"/>
            <a:ext cx="3429000" cy="315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01960" y="620640"/>
            <a:ext cx="369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comic"/>
              </a:rPr>
              <a:t>PIERC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403280" y="4508640"/>
            <a:ext cx="561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YE-SHADO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817560"/>
            <a:ext cx="7345440" cy="352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5013360"/>
            <a:ext cx="673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FACE GLIT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66848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868000" y="6033960"/>
            <a:ext cx="295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KE-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8040" y="1052640"/>
            <a:ext cx="458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0000"/>
                </a:solidFill>
                <a:latin typeface="Bauhaus 93"/>
              </a:rPr>
              <a:t>lipsti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95880" cy="5675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932360" y="3284640"/>
            <a:ext cx="34560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I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NIS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16:38Z</dcterms:created>
  <dc:creator>I.E.S. FEDERICO GARCIA LORCA</dc:creator>
  <dc:description/>
  <dc:language>en-US</dc:language>
  <cp:lastModifiedBy>rmi</cp:lastModifiedBy>
  <dcterms:modified xsi:type="dcterms:W3CDTF">2009-04-23T02:06:54Z</dcterms:modified>
  <cp:revision>3</cp:revision>
  <dc:subject/>
  <dc:title>Diapositiva 1</dc:title>
</cp:coreProperties>
</file>